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D4A3-7114-4060-8BE1-FC7CDE65B97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F74A-E9D9-4798-98B4-30AB2646FB6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4E3B-2CF6-4759-BDCF-27CF77A38D4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D69B-CEEA-40F7-955D-7402A74CB92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ADE4-753F-43B0-8BB6-28F98FB5F3B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C635-348D-4D21-B313-31236F4CFD9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34EA-0E7F-4855-B344-6B6643250A0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7151-4907-46F3-8549-7DD698D0F66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B3F6-0C8B-45E4-9C5E-48E8F6DC8EC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7EA6-2FB8-4A6D-96F4-AA8114D2185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20BF-3BB3-4D55-8E1E-D8769D41903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0182-66A0-4EFF-B733-EC78E03DEAE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0446-A91C-44CA-94BC-78711867622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9FC5-DA00-4FA5-B9A6-E0B0784B002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FF4F-1081-4214-BBEE-94920436242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FFFE-BABC-4908-B0EB-CA0FFFA39E1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4A7-6437-4605-AC52-AB56ADEA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EA2-D3DF-4461-8500-22CA9014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2F0-4819-4FEB-9FF2-FCF26949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4B6-0EB2-4B62-B837-0035C062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286-48A1-4838-A255-70620CDB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100-02CD-4D29-B2B0-DF51EA28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614-4BE4-45B8-B22E-E0EC3B39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EB6-8164-45C2-A3E4-6F401F9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E70-F89D-47E9-9D74-05A551E6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368-F42C-45FE-9A87-F16A4FBF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67F-B4FF-4B7C-BC7C-E4F5DE5B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FF7-0243-4726-87EC-283CA28E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687E-D0F1-4B57-BE34-30C6681D740F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Geospatial data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emantics of input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602320" y="2287440"/>
            <a:ext cx="285732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39" name="Picture 8" descr=""/>
          <p:cNvPicPr/>
          <p:nvPr/>
        </p:nvPicPr>
        <p:blipFill>
          <a:blip r:embed="rId2"/>
          <a:srcRect l="24611" t="19776" r="13281" b="29690"/>
          <a:stretch/>
        </p:blipFill>
        <p:spPr>
          <a:xfrm>
            <a:off x="958680" y="2287440"/>
            <a:ext cx="3841920" cy="250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40" name="TextBox 7"/>
          <p:cNvSpPr/>
          <p:nvPr/>
        </p:nvSpPr>
        <p:spPr>
          <a:xfrm>
            <a:off x="1316160" y="49309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al Elev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5745240" y="4930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tegor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mod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620640" y="1968480"/>
            <a:ext cx="344664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44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45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3840"/>
                <a:gridCol w="1419120"/>
              </a:tblGrid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7" name="Right Arrow 8"/>
          <p:cNvGrpSpPr/>
          <p:nvPr/>
        </p:nvGrpSpPr>
        <p:grpSpPr>
          <a:xfrm>
            <a:off x="4170240" y="3097080"/>
            <a:ext cx="1395360" cy="755640"/>
            <a:chOff x="4170240" y="3097080"/>
            <a:chExt cx="1395360" cy="755640"/>
          </a:xfrm>
        </p:grpSpPr>
        <p:pic>
          <p:nvPicPr>
            <p:cNvPr id="148" name="Right Arrow 8" descr=""/>
            <p:cNvPicPr/>
            <p:nvPr/>
          </p:nvPicPr>
          <p:blipFill>
            <a:blip r:embed="rId3"/>
            <a:stretch/>
          </p:blipFill>
          <p:spPr>
            <a:xfrm>
              <a:off x="4170240" y="3097080"/>
              <a:ext cx="1395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222800" y="3292560"/>
              <a:ext cx="1123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rast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2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3840"/>
                <a:gridCol w="1419120"/>
              </a:tblGrid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Rectangle 3"/>
          <p:cNvSpPr/>
          <p:nvPr/>
        </p:nvSpPr>
        <p:spPr>
          <a:xfrm>
            <a:off x="75564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58000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7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coverag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3840"/>
                <a:gridCol w="1419120"/>
              </a:tblGrid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61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Box 11"/>
          <p:cNvSpPr/>
          <p:nvPr/>
        </p:nvSpPr>
        <p:spPr>
          <a:xfrm>
            <a:off x="5643720" y="1484280"/>
            <a:ext cx="32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221520" y="5950080"/>
            <a:ext cx="2887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three attributes summ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ight Brace 1"/>
          <p:cNvSpPr/>
          <p:nvPr/>
        </p:nvSpPr>
        <p:spPr>
          <a:xfrm>
            <a:off x="5940360" y="5445000"/>
            <a:ext cx="287280" cy="14130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413000"/>
              <a:gd name="textAreaBottom" fmla="*/ 14058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4"/>
                  <a:pt x="10800" y="367"/>
                </a:cubicBezTo>
                <a:lnTo>
                  <a:pt x="10800" y="10433"/>
                </a:lnTo>
                <a:cubicBezTo>
                  <a:pt x="10800" y="10617"/>
                  <a:pt x="16200" y="10800"/>
                  <a:pt x="21600" y="10800"/>
                </a:cubicBezTo>
                <a:cubicBezTo>
                  <a:pt x="16200" y="10800"/>
                  <a:pt x="10800" y="10984"/>
                  <a:pt x="10800" y="11167"/>
                </a:cubicBezTo>
                <a:lnTo>
                  <a:pt x="10800" y="21233"/>
                </a:lnTo>
                <a:cubicBezTo>
                  <a:pt x="10800" y="2141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66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Box 11"/>
          <p:cNvSpPr/>
          <p:nvPr/>
        </p:nvSpPr>
        <p:spPr>
          <a:xfrm>
            <a:off x="736560" y="14842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rcRect l="41681" t="16687" r="30950" b="57875"/>
          <a:stretch/>
        </p:blipFill>
        <p:spPr>
          <a:xfrm>
            <a:off x="3146400" y="458640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rcRect l="41681" t="16687" r="30950" b="57875"/>
          <a:stretch/>
        </p:blipFill>
        <p:spPr>
          <a:xfrm>
            <a:off x="97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71" name="Rectangle 15"/>
          <p:cNvSpPr/>
          <p:nvPr/>
        </p:nvSpPr>
        <p:spPr>
          <a:xfrm>
            <a:off x="1033560" y="3097080"/>
            <a:ext cx="785880" cy="8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177624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3"/>
          <a:srcRect l="41681" t="16687" r="30950" b="57875"/>
          <a:stretch/>
        </p:blipFill>
        <p:spPr>
          <a:xfrm>
            <a:off x="565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75" name=""/>
          <p:cNvGraphicFramePr/>
          <p:nvPr/>
        </p:nvGraphicFramePr>
        <p:xfrm>
          <a:off x="5667480" y="1773360"/>
          <a:ext cx="2643120" cy="221436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152880" y="458136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3"/>
          <p:cNvSpPr/>
          <p:nvPr/>
        </p:nvSpPr>
        <p:spPr>
          <a:xfrm>
            <a:off x="2843280" y="4005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3"/>
          <p:cNvSpPr/>
          <p:nvPr/>
        </p:nvSpPr>
        <p:spPr>
          <a:xfrm>
            <a:off x="5559480" y="658188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3"/>
          <p:cNvSpPr/>
          <p:nvPr/>
        </p:nvSpPr>
        <p:spPr>
          <a:xfrm>
            <a:off x="1328760" y="1700280"/>
            <a:ext cx="312840" cy="2520720"/>
          </a:xfrm>
          <a:custGeom>
            <a:avLst/>
            <a:gdLst/>
            <a:ahLst/>
            <a:rect l="l" t="t" r="r" b="b"/>
            <a:pathLst>
              <a:path w="368300" h="3462702">
                <a:moveTo>
                  <a:pt x="368300" y="0"/>
                </a:moveTo>
                <a:cubicBezTo>
                  <a:pt x="338667" y="29633"/>
                  <a:pt x="314269" y="65654"/>
                  <a:pt x="279400" y="88900"/>
                </a:cubicBezTo>
                <a:cubicBezTo>
                  <a:pt x="266700" y="97367"/>
                  <a:pt x="252594" y="104033"/>
                  <a:pt x="241300" y="114300"/>
                </a:cubicBezTo>
                <a:cubicBezTo>
                  <a:pt x="86760" y="254791"/>
                  <a:pt x="192983" y="180378"/>
                  <a:pt x="101600" y="241300"/>
                </a:cubicBezTo>
                <a:cubicBezTo>
                  <a:pt x="79717" y="328834"/>
                  <a:pt x="96706" y="276488"/>
                  <a:pt x="38100" y="393700"/>
                </a:cubicBezTo>
                <a:cubicBezTo>
                  <a:pt x="27219" y="426344"/>
                  <a:pt x="19079" y="447517"/>
                  <a:pt x="12700" y="482600"/>
                </a:cubicBezTo>
                <a:cubicBezTo>
                  <a:pt x="7345" y="512051"/>
                  <a:pt x="4233" y="541867"/>
                  <a:pt x="0" y="571500"/>
                </a:cubicBezTo>
                <a:cubicBezTo>
                  <a:pt x="4233" y="664633"/>
                  <a:pt x="5550" y="757945"/>
                  <a:pt x="12700" y="850900"/>
                </a:cubicBezTo>
                <a:cubicBezTo>
                  <a:pt x="15954" y="893203"/>
                  <a:pt x="29615" y="901619"/>
                  <a:pt x="38100" y="939800"/>
                </a:cubicBezTo>
                <a:cubicBezTo>
                  <a:pt x="52558" y="1004863"/>
                  <a:pt x="45405" y="1030611"/>
                  <a:pt x="76200" y="1092200"/>
                </a:cubicBezTo>
                <a:cubicBezTo>
                  <a:pt x="93133" y="1126067"/>
                  <a:pt x="115026" y="1157879"/>
                  <a:pt x="127000" y="1193800"/>
                </a:cubicBezTo>
                <a:cubicBezTo>
                  <a:pt x="140964" y="1235692"/>
                  <a:pt x="144852" y="1249842"/>
                  <a:pt x="165100" y="1295400"/>
                </a:cubicBezTo>
                <a:cubicBezTo>
                  <a:pt x="172789" y="1312700"/>
                  <a:pt x="180760" y="1329966"/>
                  <a:pt x="190500" y="1346200"/>
                </a:cubicBezTo>
                <a:cubicBezTo>
                  <a:pt x="206206" y="1372377"/>
                  <a:pt x="219714" y="1400814"/>
                  <a:pt x="241300" y="1422400"/>
                </a:cubicBezTo>
                <a:lnTo>
                  <a:pt x="279400" y="1460500"/>
                </a:lnTo>
                <a:cubicBezTo>
                  <a:pt x="309508" y="1611041"/>
                  <a:pt x="269934" y="1455075"/>
                  <a:pt x="317500" y="1562100"/>
                </a:cubicBezTo>
                <a:cubicBezTo>
                  <a:pt x="328374" y="1586566"/>
                  <a:pt x="342900" y="1638300"/>
                  <a:pt x="342900" y="1638300"/>
                </a:cubicBezTo>
                <a:cubicBezTo>
                  <a:pt x="338667" y="1689100"/>
                  <a:pt x="339594" y="1740597"/>
                  <a:pt x="330200" y="1790700"/>
                </a:cubicBezTo>
                <a:cubicBezTo>
                  <a:pt x="325275" y="1816965"/>
                  <a:pt x="260273" y="1909336"/>
                  <a:pt x="254000" y="1917700"/>
                </a:cubicBezTo>
                <a:cubicBezTo>
                  <a:pt x="241300" y="1934633"/>
                  <a:pt x="229675" y="1952429"/>
                  <a:pt x="215900" y="1968500"/>
                </a:cubicBezTo>
                <a:cubicBezTo>
                  <a:pt x="204211" y="1982137"/>
                  <a:pt x="188827" y="1992423"/>
                  <a:pt x="177800" y="2006600"/>
                </a:cubicBezTo>
                <a:cubicBezTo>
                  <a:pt x="159058" y="2030697"/>
                  <a:pt x="143933" y="2057400"/>
                  <a:pt x="127000" y="2082800"/>
                </a:cubicBezTo>
                <a:cubicBezTo>
                  <a:pt x="118533" y="2095500"/>
                  <a:pt x="106427" y="2106420"/>
                  <a:pt x="101600" y="2120900"/>
                </a:cubicBezTo>
                <a:lnTo>
                  <a:pt x="88900" y="2159000"/>
                </a:lnTo>
                <a:cubicBezTo>
                  <a:pt x="93133" y="2226733"/>
                  <a:pt x="91016" y="2295165"/>
                  <a:pt x="101600" y="2362200"/>
                </a:cubicBezTo>
                <a:cubicBezTo>
                  <a:pt x="103981" y="2377277"/>
                  <a:pt x="120987" y="2386271"/>
                  <a:pt x="127000" y="2400300"/>
                </a:cubicBezTo>
                <a:cubicBezTo>
                  <a:pt x="133876" y="2416343"/>
                  <a:pt x="132824" y="2435057"/>
                  <a:pt x="139700" y="2451100"/>
                </a:cubicBezTo>
                <a:cubicBezTo>
                  <a:pt x="145713" y="2465129"/>
                  <a:pt x="158274" y="2475548"/>
                  <a:pt x="165100" y="2489200"/>
                </a:cubicBezTo>
                <a:cubicBezTo>
                  <a:pt x="184109" y="2527218"/>
                  <a:pt x="176009" y="2547326"/>
                  <a:pt x="190500" y="2590800"/>
                </a:cubicBezTo>
                <a:cubicBezTo>
                  <a:pt x="242540" y="2746920"/>
                  <a:pt x="195309" y="2557634"/>
                  <a:pt x="228600" y="2679700"/>
                </a:cubicBezTo>
                <a:cubicBezTo>
                  <a:pt x="271570" y="2837258"/>
                  <a:pt x="237468" y="2731704"/>
                  <a:pt x="266700" y="2819400"/>
                </a:cubicBezTo>
                <a:cubicBezTo>
                  <a:pt x="262467" y="2899833"/>
                  <a:pt x="263597" y="2980729"/>
                  <a:pt x="254000" y="3060700"/>
                </a:cubicBezTo>
                <a:cubicBezTo>
                  <a:pt x="250810" y="3087283"/>
                  <a:pt x="228600" y="3136900"/>
                  <a:pt x="228600" y="3136900"/>
                </a:cubicBezTo>
                <a:cubicBezTo>
                  <a:pt x="224367" y="3196167"/>
                  <a:pt x="226226" y="3256186"/>
                  <a:pt x="215900" y="3314700"/>
                </a:cubicBezTo>
                <a:cubicBezTo>
                  <a:pt x="213247" y="3329731"/>
                  <a:pt x="200271" y="3341074"/>
                  <a:pt x="190500" y="3352800"/>
                </a:cubicBezTo>
                <a:cubicBezTo>
                  <a:pt x="179002" y="3366598"/>
                  <a:pt x="166198" y="3379402"/>
                  <a:pt x="152400" y="3390900"/>
                </a:cubicBezTo>
                <a:cubicBezTo>
                  <a:pt x="66237" y="3462702"/>
                  <a:pt x="141991" y="3388609"/>
                  <a:pt x="101600" y="3429000"/>
                </a:cubicBezTo>
              </a:path>
            </a:pathLst>
          </a:custGeom>
          <a:noFill/>
          <a:ln w="25560">
            <a:solidFill>
              <a:srgbClr val="9999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42920" y="1700280"/>
          <a:ext cx="2928960" cy="2500200"/>
        </p:xfrm>
        <a:graphic>
          <a:graphicData uri="http://schemas.openxmlformats.org/drawingml/2006/table">
            <a:tbl>
              <a:tblPr/>
              <a:tblGrid>
                <a:gridCol w="976320"/>
                <a:gridCol w="976320"/>
                <a:gridCol w="976320"/>
              </a:tblGrid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Freeform 25"/>
          <p:cNvSpPr/>
          <p:nvPr/>
        </p:nvSpPr>
        <p:spPr>
          <a:xfrm>
            <a:off x="5219640" y="1987560"/>
            <a:ext cx="2820960" cy="2862360"/>
          </a:xfrm>
          <a:custGeom>
            <a:avLst/>
            <a:gdLst/>
            <a:ahLst/>
            <a:rect l="l" t="t" r="r" b="b"/>
            <a:pathLst>
              <a:path w="1440910" h="1553029">
                <a:moveTo>
                  <a:pt x="366853" y="319314"/>
                </a:moveTo>
                <a:cubicBezTo>
                  <a:pt x="332986" y="338666"/>
                  <a:pt x="285563" y="396244"/>
                  <a:pt x="236224" y="420914"/>
                </a:cubicBezTo>
                <a:cubicBezTo>
                  <a:pt x="216872" y="430590"/>
                  <a:pt x="194913" y="436242"/>
                  <a:pt x="178167" y="449943"/>
                </a:cubicBezTo>
                <a:cubicBezTo>
                  <a:pt x="141099" y="480272"/>
                  <a:pt x="110434" y="517676"/>
                  <a:pt x="76567" y="551543"/>
                </a:cubicBezTo>
                <a:lnTo>
                  <a:pt x="33024" y="595086"/>
                </a:lnTo>
                <a:cubicBezTo>
                  <a:pt x="27426" y="617477"/>
                  <a:pt x="3996" y="707288"/>
                  <a:pt x="3996" y="725714"/>
                </a:cubicBezTo>
                <a:cubicBezTo>
                  <a:pt x="3996" y="798447"/>
                  <a:pt x="0" y="873091"/>
                  <a:pt x="18510" y="943429"/>
                </a:cubicBezTo>
                <a:cubicBezTo>
                  <a:pt x="25475" y="969896"/>
                  <a:pt x="58756" y="980706"/>
                  <a:pt x="76567" y="1001486"/>
                </a:cubicBezTo>
                <a:cubicBezTo>
                  <a:pt x="87920" y="1014731"/>
                  <a:pt x="94243" y="1031784"/>
                  <a:pt x="105596" y="1045029"/>
                </a:cubicBezTo>
                <a:cubicBezTo>
                  <a:pt x="123407" y="1065809"/>
                  <a:pt x="145631" y="1082489"/>
                  <a:pt x="163653" y="1103086"/>
                </a:cubicBezTo>
                <a:cubicBezTo>
                  <a:pt x="347834" y="1313578"/>
                  <a:pt x="50479" y="988951"/>
                  <a:pt x="250739" y="1233714"/>
                </a:cubicBezTo>
                <a:cubicBezTo>
                  <a:pt x="336788" y="1338886"/>
                  <a:pt x="315672" y="1295591"/>
                  <a:pt x="395882" y="1364343"/>
                </a:cubicBezTo>
                <a:cubicBezTo>
                  <a:pt x="411467" y="1377701"/>
                  <a:pt x="422345" y="1396500"/>
                  <a:pt x="439424" y="1407886"/>
                </a:cubicBezTo>
                <a:cubicBezTo>
                  <a:pt x="452154" y="1416373"/>
                  <a:pt x="467709" y="1421270"/>
                  <a:pt x="482967" y="1422400"/>
                </a:cubicBezTo>
                <a:cubicBezTo>
                  <a:pt x="598865" y="1430985"/>
                  <a:pt x="715196" y="1432076"/>
                  <a:pt x="831310" y="1436914"/>
                </a:cubicBezTo>
                <a:cubicBezTo>
                  <a:pt x="855501" y="1446590"/>
                  <a:pt x="881788" y="1452134"/>
                  <a:pt x="903882" y="1465943"/>
                </a:cubicBezTo>
                <a:cubicBezTo>
                  <a:pt x="921288" y="1476822"/>
                  <a:pt x="931655" y="1496345"/>
                  <a:pt x="947424" y="1509486"/>
                </a:cubicBezTo>
                <a:cubicBezTo>
                  <a:pt x="984937" y="1540747"/>
                  <a:pt x="990872" y="1538482"/>
                  <a:pt x="1034510" y="1553029"/>
                </a:cubicBezTo>
                <a:cubicBezTo>
                  <a:pt x="1092567" y="1548191"/>
                  <a:pt x="1151555" y="1549940"/>
                  <a:pt x="1208682" y="1538514"/>
                </a:cubicBezTo>
                <a:cubicBezTo>
                  <a:pt x="1237131" y="1532824"/>
                  <a:pt x="1277747" y="1480960"/>
                  <a:pt x="1295767" y="1465943"/>
                </a:cubicBezTo>
                <a:cubicBezTo>
                  <a:pt x="1309168" y="1454776"/>
                  <a:pt x="1324796" y="1446590"/>
                  <a:pt x="1339310" y="1436914"/>
                </a:cubicBezTo>
                <a:cubicBezTo>
                  <a:pt x="1364857" y="1360273"/>
                  <a:pt x="1345337" y="1406104"/>
                  <a:pt x="1411882" y="1306286"/>
                </a:cubicBezTo>
                <a:lnTo>
                  <a:pt x="1440910" y="1262743"/>
                </a:lnTo>
                <a:cubicBezTo>
                  <a:pt x="1436072" y="1146629"/>
                  <a:pt x="1439230" y="1029904"/>
                  <a:pt x="1426396" y="914400"/>
                </a:cubicBezTo>
                <a:cubicBezTo>
                  <a:pt x="1424470" y="897063"/>
                  <a:pt x="1406732" y="885574"/>
                  <a:pt x="1397367" y="870857"/>
                </a:cubicBezTo>
                <a:cubicBezTo>
                  <a:pt x="1318933" y="747604"/>
                  <a:pt x="1342551" y="790253"/>
                  <a:pt x="1295767" y="696686"/>
                </a:cubicBezTo>
                <a:cubicBezTo>
                  <a:pt x="1300605" y="599924"/>
                  <a:pt x="1297751" y="502469"/>
                  <a:pt x="1310282" y="406400"/>
                </a:cubicBezTo>
                <a:cubicBezTo>
                  <a:pt x="1312538" y="389103"/>
                  <a:pt x="1338552" y="380284"/>
                  <a:pt x="1339310" y="362857"/>
                </a:cubicBezTo>
                <a:cubicBezTo>
                  <a:pt x="1341913" y="302978"/>
                  <a:pt x="1375298" y="108560"/>
                  <a:pt x="1295767" y="29029"/>
                </a:cubicBezTo>
                <a:cubicBezTo>
                  <a:pt x="1283432" y="16694"/>
                  <a:pt x="1266738" y="9676"/>
                  <a:pt x="1252224" y="0"/>
                </a:cubicBezTo>
                <a:cubicBezTo>
                  <a:pt x="1189329" y="4838"/>
                  <a:pt x="1125539" y="2889"/>
                  <a:pt x="1063539" y="14514"/>
                </a:cubicBezTo>
                <a:cubicBezTo>
                  <a:pt x="1030505" y="20708"/>
                  <a:pt x="999868" y="71476"/>
                  <a:pt x="976453" y="87086"/>
                </a:cubicBezTo>
                <a:cubicBezTo>
                  <a:pt x="963723" y="95573"/>
                  <a:pt x="947424" y="96762"/>
                  <a:pt x="932910" y="101600"/>
                </a:cubicBezTo>
                <a:cubicBezTo>
                  <a:pt x="918396" y="111276"/>
                  <a:pt x="901702" y="118294"/>
                  <a:pt x="889367" y="130629"/>
                </a:cubicBezTo>
                <a:cubicBezTo>
                  <a:pt x="877032" y="142964"/>
                  <a:pt x="875131" y="164927"/>
                  <a:pt x="860339" y="174172"/>
                </a:cubicBezTo>
                <a:cubicBezTo>
                  <a:pt x="772139" y="229297"/>
                  <a:pt x="516328" y="216046"/>
                  <a:pt x="482967" y="217714"/>
                </a:cubicBezTo>
                <a:cubicBezTo>
                  <a:pt x="473291" y="232228"/>
                  <a:pt x="461740" y="245655"/>
                  <a:pt x="453939" y="261257"/>
                </a:cubicBezTo>
                <a:cubicBezTo>
                  <a:pt x="447097" y="274941"/>
                  <a:pt x="447911" y="292070"/>
                  <a:pt x="439424" y="304800"/>
                </a:cubicBezTo>
                <a:cubicBezTo>
                  <a:pt x="428038" y="321879"/>
                  <a:pt x="400720" y="299962"/>
                  <a:pt x="366853" y="319314"/>
                </a:cubicBez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7"/>
          <p:cNvSpPr/>
          <p:nvPr/>
        </p:nvSpPr>
        <p:spPr>
          <a:xfrm>
            <a:off x="7505640" y="1844640"/>
            <a:ext cx="1067040" cy="3122640"/>
          </a:xfrm>
          <a:custGeom>
            <a:avLst/>
            <a:gdLst/>
            <a:ahLst/>
            <a:rect l="l" t="t" r="r" b="b"/>
            <a:pathLst>
              <a:path w="1066800" h="3122915">
                <a:moveTo>
                  <a:pt x="7257" y="174171"/>
                </a:moveTo>
                <a:cubicBezTo>
                  <a:pt x="0" y="159657"/>
                  <a:pt x="33721" y="142015"/>
                  <a:pt x="50800" y="130629"/>
                </a:cubicBezTo>
                <a:cubicBezTo>
                  <a:pt x="63530" y="122142"/>
                  <a:pt x="80280" y="122141"/>
                  <a:pt x="94342" y="116114"/>
                </a:cubicBezTo>
                <a:cubicBezTo>
                  <a:pt x="114229" y="107591"/>
                  <a:pt x="132513" y="95609"/>
                  <a:pt x="152400" y="87086"/>
                </a:cubicBezTo>
                <a:cubicBezTo>
                  <a:pt x="166462" y="81059"/>
                  <a:pt x="181663" y="78063"/>
                  <a:pt x="195942" y="72571"/>
                </a:cubicBezTo>
                <a:cubicBezTo>
                  <a:pt x="378302" y="2432"/>
                  <a:pt x="283376" y="28941"/>
                  <a:pt x="399142" y="0"/>
                </a:cubicBezTo>
                <a:cubicBezTo>
                  <a:pt x="495904" y="4838"/>
                  <a:pt x="593359" y="1983"/>
                  <a:pt x="689428" y="14514"/>
                </a:cubicBezTo>
                <a:cubicBezTo>
                  <a:pt x="706726" y="16770"/>
                  <a:pt x="718178" y="34298"/>
                  <a:pt x="732971" y="43543"/>
                </a:cubicBezTo>
                <a:cubicBezTo>
                  <a:pt x="756893" y="58495"/>
                  <a:pt x="781742" y="71940"/>
                  <a:pt x="805542" y="87086"/>
                </a:cubicBezTo>
                <a:cubicBezTo>
                  <a:pt x="862208" y="123146"/>
                  <a:pt x="964427" y="187143"/>
                  <a:pt x="994228" y="246743"/>
                </a:cubicBezTo>
                <a:cubicBezTo>
                  <a:pt x="1003904" y="266095"/>
                  <a:pt x="1015221" y="284711"/>
                  <a:pt x="1023257" y="304800"/>
                </a:cubicBezTo>
                <a:cubicBezTo>
                  <a:pt x="1052718" y="378454"/>
                  <a:pt x="1052224" y="391579"/>
                  <a:pt x="1066800" y="464457"/>
                </a:cubicBezTo>
                <a:cubicBezTo>
                  <a:pt x="1061962" y="628952"/>
                  <a:pt x="1063479" y="793758"/>
                  <a:pt x="1052285" y="957943"/>
                </a:cubicBezTo>
                <a:cubicBezTo>
                  <a:pt x="1048929" y="1007168"/>
                  <a:pt x="1029377" y="1054128"/>
                  <a:pt x="1023257" y="1103086"/>
                </a:cubicBezTo>
                <a:cubicBezTo>
                  <a:pt x="1018419" y="1141791"/>
                  <a:pt x="1014528" y="1180626"/>
                  <a:pt x="1008742" y="1219200"/>
                </a:cubicBezTo>
                <a:cubicBezTo>
                  <a:pt x="1000011" y="1277407"/>
                  <a:pt x="979714" y="1393371"/>
                  <a:pt x="979714" y="1393371"/>
                </a:cubicBezTo>
                <a:cubicBezTo>
                  <a:pt x="974876" y="1698171"/>
                  <a:pt x="974032" y="2003061"/>
                  <a:pt x="965200" y="2307771"/>
                </a:cubicBezTo>
                <a:cubicBezTo>
                  <a:pt x="964571" y="2329481"/>
                  <a:pt x="941416" y="2441201"/>
                  <a:pt x="936171" y="2467429"/>
                </a:cubicBezTo>
                <a:cubicBezTo>
                  <a:pt x="931333" y="2602896"/>
                  <a:pt x="930384" y="2738557"/>
                  <a:pt x="921657" y="2873829"/>
                </a:cubicBezTo>
                <a:cubicBezTo>
                  <a:pt x="920672" y="2889096"/>
                  <a:pt x="913984" y="2903687"/>
                  <a:pt x="907142" y="2917371"/>
                </a:cubicBezTo>
                <a:cubicBezTo>
                  <a:pt x="899341" y="2932973"/>
                  <a:pt x="890449" y="2948579"/>
                  <a:pt x="878114" y="2960914"/>
                </a:cubicBezTo>
                <a:cubicBezTo>
                  <a:pt x="865779" y="2973249"/>
                  <a:pt x="849085" y="2980267"/>
                  <a:pt x="834571" y="2989943"/>
                </a:cubicBezTo>
                <a:cubicBezTo>
                  <a:pt x="781351" y="3069772"/>
                  <a:pt x="834571" y="3002038"/>
                  <a:pt x="762000" y="3062514"/>
                </a:cubicBezTo>
                <a:cubicBezTo>
                  <a:pt x="689519" y="3122915"/>
                  <a:pt x="751436" y="3095064"/>
                  <a:pt x="674914" y="3120571"/>
                </a:cubicBezTo>
                <a:cubicBezTo>
                  <a:pt x="631371" y="3115733"/>
                  <a:pt x="585848" y="3119911"/>
                  <a:pt x="544285" y="3106057"/>
                </a:cubicBezTo>
                <a:cubicBezTo>
                  <a:pt x="524812" y="3099566"/>
                  <a:pt x="517821" y="3073900"/>
                  <a:pt x="500742" y="3062514"/>
                </a:cubicBezTo>
                <a:cubicBezTo>
                  <a:pt x="488012" y="3054028"/>
                  <a:pt x="471714" y="3052838"/>
                  <a:pt x="457200" y="3048000"/>
                </a:cubicBezTo>
                <a:cubicBezTo>
                  <a:pt x="428171" y="3018971"/>
                  <a:pt x="383096" y="2999860"/>
                  <a:pt x="370114" y="2960914"/>
                </a:cubicBezTo>
                <a:cubicBezTo>
                  <a:pt x="355567" y="2917272"/>
                  <a:pt x="357835" y="2911345"/>
                  <a:pt x="326571" y="2873829"/>
                </a:cubicBezTo>
                <a:cubicBezTo>
                  <a:pt x="313430" y="2858060"/>
                  <a:pt x="301785" y="2838623"/>
                  <a:pt x="283028" y="2830286"/>
                </a:cubicBezTo>
                <a:cubicBezTo>
                  <a:pt x="256135" y="2818334"/>
                  <a:pt x="224971" y="2820609"/>
                  <a:pt x="195942" y="2815771"/>
                </a:cubicBezTo>
                <a:cubicBezTo>
                  <a:pt x="200780" y="2796419"/>
                  <a:pt x="200560" y="2775034"/>
                  <a:pt x="210457" y="2757714"/>
                </a:cubicBezTo>
                <a:cubicBezTo>
                  <a:pt x="220641" y="2739892"/>
                  <a:pt x="240859" y="2729940"/>
                  <a:pt x="254000" y="2714171"/>
                </a:cubicBezTo>
                <a:cubicBezTo>
                  <a:pt x="355036" y="2592928"/>
                  <a:pt x="199358" y="2754299"/>
                  <a:pt x="326571" y="2627086"/>
                </a:cubicBezTo>
                <a:cubicBezTo>
                  <a:pt x="359904" y="2493753"/>
                  <a:pt x="311730" y="2631123"/>
                  <a:pt x="384628" y="2540000"/>
                </a:cubicBezTo>
                <a:cubicBezTo>
                  <a:pt x="394185" y="2528053"/>
                  <a:pt x="392300" y="2510141"/>
                  <a:pt x="399142" y="2496457"/>
                </a:cubicBezTo>
                <a:cubicBezTo>
                  <a:pt x="406943" y="2480855"/>
                  <a:pt x="418495" y="2467428"/>
                  <a:pt x="428171" y="2452914"/>
                </a:cubicBezTo>
                <a:cubicBezTo>
                  <a:pt x="423333" y="2298095"/>
                  <a:pt x="422494" y="2143099"/>
                  <a:pt x="413657" y="1988457"/>
                </a:cubicBezTo>
                <a:cubicBezTo>
                  <a:pt x="412784" y="1973182"/>
                  <a:pt x="405984" y="1958598"/>
                  <a:pt x="399142" y="1944914"/>
                </a:cubicBezTo>
                <a:cubicBezTo>
                  <a:pt x="368020" y="1882670"/>
                  <a:pt x="371516" y="1915615"/>
                  <a:pt x="326571" y="1857829"/>
                </a:cubicBezTo>
                <a:cubicBezTo>
                  <a:pt x="305152" y="1830290"/>
                  <a:pt x="287866" y="1799772"/>
                  <a:pt x="268514" y="1770743"/>
                </a:cubicBezTo>
                <a:lnTo>
                  <a:pt x="239485" y="1727200"/>
                </a:lnTo>
                <a:lnTo>
                  <a:pt x="210457" y="1683657"/>
                </a:lnTo>
                <a:lnTo>
                  <a:pt x="181428" y="1640114"/>
                </a:lnTo>
                <a:cubicBezTo>
                  <a:pt x="176590" y="1625600"/>
                  <a:pt x="170940" y="1611331"/>
                  <a:pt x="166914" y="1596571"/>
                </a:cubicBezTo>
                <a:cubicBezTo>
                  <a:pt x="156417" y="1558081"/>
                  <a:pt x="137885" y="1480457"/>
                  <a:pt x="137885" y="1480457"/>
                </a:cubicBezTo>
                <a:cubicBezTo>
                  <a:pt x="142723" y="1315962"/>
                  <a:pt x="143972" y="1151322"/>
                  <a:pt x="152400" y="986971"/>
                </a:cubicBezTo>
                <a:cubicBezTo>
                  <a:pt x="153127" y="972795"/>
                  <a:pt x="169524" y="892284"/>
                  <a:pt x="181428" y="870857"/>
                </a:cubicBezTo>
                <a:cubicBezTo>
                  <a:pt x="198371" y="840359"/>
                  <a:pt x="239485" y="783771"/>
                  <a:pt x="239485" y="783771"/>
                </a:cubicBezTo>
                <a:cubicBezTo>
                  <a:pt x="234647" y="628952"/>
                  <a:pt x="254536" y="471361"/>
                  <a:pt x="224971" y="319314"/>
                </a:cubicBezTo>
                <a:cubicBezTo>
                  <a:pt x="218312" y="285067"/>
                  <a:pt x="162555" y="285927"/>
                  <a:pt x="137885" y="261257"/>
                </a:cubicBezTo>
                <a:cubicBezTo>
                  <a:pt x="123371" y="246743"/>
                  <a:pt x="110111" y="230855"/>
                  <a:pt x="94342" y="217714"/>
                </a:cubicBezTo>
                <a:cubicBezTo>
                  <a:pt x="68072" y="195822"/>
                  <a:pt x="14514" y="188685"/>
                  <a:pt x="7257" y="174171"/>
                </a:cubicBezTo>
                <a:close/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219640" y="1773360"/>
          <a:ext cx="3500640" cy="350028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7120"/>
              </a:tblGrid>
              <a:tr h="874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sum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9" name="Picture 39" descr=""/>
          <p:cNvPicPr/>
          <p:nvPr/>
        </p:nvPicPr>
        <p:blipFill>
          <a:blip r:embed="rId1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9" descr=""/>
          <p:cNvPicPr/>
          <p:nvPr/>
        </p:nvPicPr>
        <p:blipFill>
          <a:blip r:embed="rId2"/>
          <a:srcRect l="49126" t="0" r="0" b="55797"/>
          <a:stretch/>
        </p:blipFill>
        <p:spPr>
          <a:xfrm>
            <a:off x="3786120" y="1986120"/>
            <a:ext cx="3571920" cy="13158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2916360" y="6237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conserves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9" descr=""/>
          <p:cNvPicPr/>
          <p:nvPr/>
        </p:nvPicPr>
        <p:blipFill>
          <a:blip r:embed="rId1"/>
          <a:srcRect l="47797" t="51626" r="0" b="0"/>
          <a:stretch/>
        </p:blipFill>
        <p:spPr>
          <a:xfrm>
            <a:off x="3679920" y="2170080"/>
            <a:ext cx="3529080" cy="13734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average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95" name="Picture 39" descr=""/>
          <p:cNvPicPr/>
          <p:nvPr/>
        </p:nvPicPr>
        <p:blipFill>
          <a:blip r:embed="rId2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1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916360" y="6237360"/>
            <a:ext cx="40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does not conserve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build Runoff databas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684360" y="2205000"/>
            <a:ext cx="82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“elevation.tif” and “elevation-box.shp” available in data of package terra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resolution 200 to create the cellula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pdate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fter simulation, create a new database with resolution 100 and run the simula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84360" y="2205000"/>
            <a:ext cx="64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solutions and ext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units of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460000" cy="1539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Homogenize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4360" y="3645000"/>
            <a:ext cx="7848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9640" y="2997360"/>
            <a:ext cx="860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 Cellular representation unifies different representations, formats, resolutions, and ext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ells can be treated as samples or “objects” without needing to take into account their spatial re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elps statistics as well as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from different sources and representa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Content Placeholder 2"/>
          <p:cNvSpPr/>
          <p:nvPr/>
        </p:nvSpPr>
        <p:spPr>
          <a:xfrm>
            <a:off x="826920" y="3213000"/>
            <a:ext cx="8042400" cy="981000"/>
          </a:xfrm>
          <a:prstGeom prst="rect">
            <a:avLst/>
          </a:prstGeom>
          <a:solidFill>
            <a:srgbClr val="f3f6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ifferent strategies according to the spatial representation of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m 5" descr="AREA_INDIGENA.png"/>
          <p:cNvPicPr/>
          <p:nvPr/>
        </p:nvPicPr>
        <p:blipFill>
          <a:blip r:embed="rId1"/>
          <a:stretch/>
        </p:blipFill>
        <p:spPr>
          <a:xfrm>
            <a:off x="539640" y="1125360"/>
            <a:ext cx="4978440" cy="290196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7" descr="DEFOR_10.png"/>
          <p:cNvPicPr/>
          <p:nvPr/>
        </p:nvPicPr>
        <p:blipFill>
          <a:blip r:embed="rId2"/>
          <a:stretch/>
        </p:blipFill>
        <p:spPr>
          <a:xfrm>
            <a:off x="560520" y="4149720"/>
            <a:ext cx="4690800" cy="2735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"/>
          <p:cNvSpPr/>
          <p:nvPr/>
        </p:nvSpPr>
        <p:spPr>
          <a:xfrm>
            <a:off x="3421080" y="1197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C:\Users\User\Desktop\FIGURAS\DIST_PORTOS.png"/>
          <p:cNvPicPr/>
          <p:nvPr/>
        </p:nvPicPr>
        <p:blipFill>
          <a:blip r:embed="rId3"/>
          <a:stretch/>
        </p:blipFill>
        <p:spPr>
          <a:xfrm>
            <a:off x="5016600" y="1052640"/>
            <a:ext cx="4127400" cy="2903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C:\Users\User\Desktop\FIGURAS\DIST_RODOVIAS.png"/>
          <p:cNvPicPr/>
          <p:nvPr/>
        </p:nvPicPr>
        <p:blipFill>
          <a:blip r:embed="rId4"/>
          <a:srcRect l="0" t="0" r="15384" b="0"/>
          <a:stretch/>
        </p:blipFill>
        <p:spPr>
          <a:xfrm>
            <a:off x="4932360" y="3983040"/>
            <a:ext cx="4211640" cy="2901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8029440" y="1125360"/>
            <a:ext cx="115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7931160" y="420048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3494160" y="42721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ellular Represent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resolu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computational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epends on the process unde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solu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rcRect l="0" t="10383" r="0" b="0"/>
          <a:stretch/>
        </p:blipFill>
        <p:spPr>
          <a:xfrm>
            <a:off x="1763640" y="2781360"/>
            <a:ext cx="5573880" cy="3816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421560" y="6608880"/>
            <a:ext cx="78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atimagingcorp.com/services/resources/characterization-of-satellite-remote-sensing-sy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609480" y="1413000"/>
            <a:ext cx="85345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presents a TerraLib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ntains a set of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ame a give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s might be stored in 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an be used to create ne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unctions to manipulate geospati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ackage “terralib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a new attribute to the cells given an input data, a strategy, and other arg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6" name="Picture 1" descr="Captura de Tela 2016-08-08 às 17.15.59.png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8-11T12:11:48Z</dcterms:modified>
  <cp:revision>425</cp:revision>
  <dc:subject/>
  <dc:title>Low-carbon growth in Brazil?</dc:title>
</cp:coreProperties>
</file>